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52A-6639-4314-B33B-3823BA29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331-130D-4323-9FA4-057C9055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EF8-5CE7-41E6-AB71-C78B309F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D2B-3BA4-4B1F-BB37-B64F32F8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F06-B3A2-4854-BBF7-274EA4ED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2D8-AB45-4294-9E89-55629148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D8B-FEFB-4169-9C90-BCBBD714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D4D-44C7-45B8-AD0E-8A685AD9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97F-1479-4128-BC6D-333B37EA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A03-D4AA-4FB3-93F1-1E41D8C2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31C-043F-4D3E-843E-FAAB8309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619-20A4-461C-B390-DFC2768F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FE6C-27BD-46E4-926A-60D42F7D9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2:31:29Z</dcterms:created>
  <dc:creator>Patrick J. Mooney</dc:creator>
  <dc:description/>
  <dc:language>en-US</dc:language>
  <cp:lastModifiedBy>Patrick J. Mooney</cp:lastModifiedBy>
  <dcterms:modified xsi:type="dcterms:W3CDTF">2011-12-01T02:32:31Z</dcterms:modified>
  <cp:revision>1</cp:revision>
  <dc:subject/>
  <dc:title>Slide 1</dc:title>
</cp:coreProperties>
</file>